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ECC-0A63-4C72-9DAF-8690FCCC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8CD-05F2-4E4C-8784-25A88651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3FA-A13E-4F2F-A704-7477D767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EDF-3B4D-4A24-8AD0-652C8BEA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A00F-0041-4A27-A931-A86729F6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F768-E011-44B0-9AFF-80A8090C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C8A3-319D-48A6-8BA9-905B8427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B3CE-92BA-4793-8A35-162B718F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F1F1-B87B-455D-A652-40A18A7D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72CA-DAD6-40BB-A5AD-320C32FF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FB50-FDB4-45D6-A836-7E093441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A87-BBBD-4EB2-81AE-3E7F9E4F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336E-4788-4EAE-8C9E-5C10279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1BE5-08EF-4DA7-94E7-D0E13F89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8CD5-6B42-4DDD-B490-ABEC3073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CA01-EFB0-4D74-B480-8C2C1441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9820-9A52-492C-AFCD-4432E05C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B41-1381-464C-9B62-85713C84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AF7-55BF-49FC-85B2-A91401DE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453-DD2D-4370-B4CB-62652285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6BF-9840-4945-A08D-D6C4F243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BE1-A6D4-45D7-991E-7FCD7F47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7C8-4307-4365-B6BD-98F28D2F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A85-59BE-4EEA-9C9F-80FF332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E0B9-7A15-464B-91F0-AC762ECD0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1B01-32A4-4FF0-BF44-FA1C9CAC3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me in Literatur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. Dix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Authors Express Themes? (continued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4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actions or ev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story are used to suggest theme. People naturally express ideas and feelings through their actions. One thing authors think about is </a:t>
            </a: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what an action will "say"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other words, how will the action express an idea or theme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6553080" y="167652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2189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Authors Express Themes?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(Review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feeling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main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though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convers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what the main character lea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specific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a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Them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5400" spc="-1" strike="noStrike">
                <a:solidFill>
                  <a:srgbClr val="cccc00"/>
                </a:solidFill>
                <a:latin typeface="Times New Roman"/>
              </a:rPr>
              <a:t>main idea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5400" spc="-1" strike="noStrike">
                <a:solidFill>
                  <a:srgbClr val="cccc00"/>
                </a:solidFill>
                <a:latin typeface="Times New Roman"/>
              </a:rPr>
              <a:t>underlying meaning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f a literary work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asic 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heme may b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st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impli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 differs from the subject or topic of a literary work in that it involves a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stat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opin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bout the top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very literary work has a the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s may b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maj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min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jor vs. Min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jor theme is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an idea the author returns 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me and again; it becomes one of 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most import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deas in the 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inor theme is an idea that may appea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only period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me and Subjec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important to recognize the difference between 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the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literary work and 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literary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top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which an author has chosen to wri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the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however,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makes some stat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bout or 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expresses some opin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that top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subjec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of a story might be 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w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while the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hem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of that same story might be the idea that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ar is useles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388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Authors Express Themes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In 4 primary way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mes are expressed and emphasized by the way the author makes us feel. By sharing </a:t>
            </a:r>
            <a:r>
              <a:rPr b="1" lang="en-US" sz="2800" spc="-1" strike="noStrike">
                <a:solidFill>
                  <a:srgbClr val="cccc00"/>
                </a:solidFill>
                <a:latin typeface="Times New Roman"/>
              </a:rPr>
              <a:t>feelings of the main characte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 also share the ideas that go through his mi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Authors Express Themes? (continued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2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es are presented in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thoughts and conversa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Authors put words in their character’s mouths only for good reasons. One of these is to develop a story’s themes. The things a person says are frequently on their mind. Look for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thoughts that are repea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roughout the stor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791320" y="1523880"/>
            <a:ext cx="250020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4495680" y="3809880"/>
            <a:ext cx="28958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Authors Express Themes? (continued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es are suggested through the </a:t>
            </a: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charact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e main character usually illustrates the most important theme of the story. A good way to get at this theme is to ask yourself the question,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what does the main character lea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course of the stor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638680" y="3657600"/>
            <a:ext cx="3281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2:54:32Z</dcterms:created>
  <dc:creator> Management</dc:creator>
  <dc:description/>
  <dc:language>en-US</dc:language>
  <cp:lastModifiedBy>Virginia Koppel</cp:lastModifiedBy>
  <dcterms:modified xsi:type="dcterms:W3CDTF">2012-09-16T23:39:55Z</dcterms:modified>
  <cp:revision>13</cp:revision>
  <dc:subject/>
  <dc:title>Theme in Literature</dc:title>
</cp:coreProperties>
</file>